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881-8AF4-4020-AFB9-D9E03521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F6D-0B7B-40F0-B255-BB50C0FC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011-D0AA-4C5E-9469-18F56455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709-A378-42F3-9DDC-3EAE7BFF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FC2-C99F-488B-B358-3C5330E9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413-62D5-4921-BAAB-C09DA618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043-F450-4469-B8E9-1486683F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74E-0C92-4078-8B85-5D814C6D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3A0-6929-4368-A58D-F8FD6D3F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265-AE79-43A7-816F-AC580CC5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55A-D853-433B-8CB6-5338DBC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CF5-1FFA-4ACA-B7DA-61D0C309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C89B-4667-452A-8E4A-AA02C0C02E62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09480" y="682560"/>
            <a:ext cx="8120160" cy="254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rgie G. Cotmay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 IV-Bayaniha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012-201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15876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ective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191120" y="1143000"/>
            <a:ext cx="22096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6095880" y="2209680"/>
            <a:ext cx="2648160" cy="235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2895480" y="3962520"/>
            <a:ext cx="3505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15876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e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943600" y="274320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3962520" y="4191120"/>
            <a:ext cx="262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15876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5715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7:22:21Z</dcterms:created>
  <dc:creator>wl7</dc:creator>
  <dc:description/>
  <dc:language>en-US</dc:language>
  <cp:lastModifiedBy>wl7</cp:lastModifiedBy>
  <dcterms:modified xsi:type="dcterms:W3CDTF">2011-10-12T07:55:59Z</dcterms:modified>
  <cp:revision>4</cp:revision>
  <dc:subject/>
  <dc:title>La Salle Academy</dc:title>
</cp:coreProperties>
</file>